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breeze.wav" ContentType="audio/x-wav"/>
  <Override PartName="/ppt/media/camera.wav" ContentType="audio/x-wav"/>
  <Override PartName="/ppt/media/image1.jpeg" ContentType="image/jpeg"/>
  <Override PartName="/ppt/media/image7.png" ContentType="image/png"/>
  <Override PartName="/ppt/media/wind.wav" ContentType="audio/x-wav"/>
  <Override PartName="/ppt/media/chimes.wav" ContentType="audio/x-wav"/>
  <Override PartName="/ppt/media/image4.png" ContentType="image/png"/>
  <Override PartName="/ppt/media/laser.wav" ContentType="audio/x-wav"/>
  <Override PartName="/ppt/media/image9.png" ContentType="image/png"/>
  <Override PartName="/ppt/media/cashreg.wav" ContentType="audio/x-wav"/>
  <Override PartName="/ppt/media/hammer.wav" ContentType="audio/x-wav"/>
  <Override PartName="/ppt/media/image13.png" ContentType="image/png"/>
  <Override PartName="/ppt/media/click.wav" ContentType="audio/x-wav"/>
  <Override PartName="/ppt/media/image8.png" ContentType="image/png"/>
  <Override PartName="/ppt/media/suction.wav" ContentType="audio/x-wav"/>
  <Override PartName="/ppt/media/image2.png" ContentType="image/png"/>
  <Override PartName="/ppt/media/image6.png" ContentType="image/png"/>
  <Override PartName="/ppt/media/image3.png" ContentType="image/png"/>
  <Override PartName="/ppt/media/coin.wav" ContentType="audio/x-wav"/>
  <Override PartName="/ppt/media/voltage.wav" ContentType="audio/x-wav"/>
  <Override PartName="/ppt/media/whoosh.wav" ContentType="audio/x-wav"/>
  <Override PartName="/ppt/media/image11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drumroll.wav" ContentType="audio/x-wav"/>
  <Override PartName="/ppt/media/bomb.wav" ContentType="audio/x-wav"/>
  <Override PartName="/ppt/media/image5.jpeg" ContentType="image/jpeg"/>
  <Override PartName="/ppt/media/explode.wav" ContentType="audio/x-wav"/>
  <Override PartName="/ppt/media/type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EA4-FB1A-4550-8935-A62E9181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2EF-3B49-42FC-97FB-33ADA12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1A6-DCA6-47B9-B813-3E8DD045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D19-CC90-472B-8400-FFE2E91F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06367-7F87-4529-9FEC-A5C22D22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611C9-B382-40C5-8564-E9603114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49166-9FE1-46D0-A706-5959E3D1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7C054-F55C-4BB8-ABB8-5666E03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6A6CA-8385-49A1-87EB-EC8E5F33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531A1-5D8A-4441-A503-73DB974F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F1DA-629C-43F0-8C87-9915EC2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E91-7B86-49E1-83A3-91103E3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607CC-8FCF-486D-97BF-D0CDA34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7B183-C6A8-43F5-879F-8E2B9C2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0B76E-4D7A-4C11-A577-54CB0982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9E074-88B6-49E1-BB65-1BB86AA2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AA032-569F-47FF-9DBD-56E38404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0F02-9456-482E-8D77-7EBE47AB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C05B-BD00-4908-8808-4A3D577A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0213-960E-49DA-A493-77F7793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86C5-3F17-4B97-BCC7-4B57FCD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6AC7-4345-4B52-94F6-79243CAA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F62-BFAC-41F3-8A1A-28B7496C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6121-AAAF-4DC4-9F4F-71ACC51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57F6-C635-4C66-AC01-022EE64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40E0-C6FE-405F-A893-1D3C8A3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D2AA-78A4-4F5C-8FA3-1BF28372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E5A6-1C0E-462B-9383-AD0ED24E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A490-0E34-42E3-B05A-899E63D8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5F38-4832-46A9-80FA-EE17AF70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279DB-0216-4DD6-A275-84294EC4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6A4F-B2B5-4EFB-BBCB-0B8F9F3E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2C3C-6FA9-47EB-B627-9DFF0303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788-4974-45E2-AA45-A195FDD6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39D7-0BBE-416F-BB25-EF59FC22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B6CF-4034-44A2-A1C0-5B45628D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5195-B600-44FB-8371-6D99768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DB1FF-0AF5-4557-9A1D-EF15728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BB58-228B-47EE-9180-CB4AB36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085C-4C45-4A43-96DE-87F253C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68C1-9E4B-4A78-9C26-E076962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DB9E-9087-4741-91B8-B088A2D2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A311-34D9-4DCA-BE52-455DE653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ACD-5ADF-46BC-BBB1-491EDD8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C9E-F141-42BE-BB08-4C15F4C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89A-18BF-4910-8492-C0A8C8A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854-4579-47F2-BF2A-B29DC92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DF2-B232-4D7D-80D4-F37A9E4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068C-2019-476C-A644-5AA9AD7812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4D9-80C4-47A0-9BF6-836498E00A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CEB-26FB-41FA-974B-CE2CC5BA1075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5BA-DD26-4D7E-A487-AEDBF1CA5898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pt.wikipedia.org/wiki/Bandeira_da_Guatemala" TargetMode="External"/><Relationship Id="rId4" Type="http://schemas.openxmlformats.org/officeDocument/2006/relationships/hyperlink" Target="http://pt.wikipedia.org/wiki/Bras&#227;o_de_armas_da_Guatemala" TargetMode="External"/><Relationship Id="rId5" Type="http://schemas.openxmlformats.org/officeDocument/2006/relationships/hyperlink" Target="http://pt.wikipedia.org/wiki/Hino_nacional" TargetMode="External"/><Relationship Id="rId6" Type="http://schemas.openxmlformats.org/officeDocument/2006/relationships/hyperlink" Target="http://pt.wikipedia.org/wiki/Hino_nacional_da_Guatemala" TargetMode="External"/><Relationship Id="rId7" Type="http://schemas.openxmlformats.org/officeDocument/2006/relationships/hyperlink" Target="http://pt.wikipedia.org/wiki/Lema" TargetMode="External"/><Relationship Id="rId8" Type="http://schemas.openxmlformats.org/officeDocument/2006/relationships/hyperlink" Target="http://pt.wikipedia.org/wiki/Capital" TargetMode="External"/><Relationship Id="rId9" Type="http://schemas.openxmlformats.org/officeDocument/2006/relationships/hyperlink" Target="http://pt.wikipedia.org/wiki/Cidade_da_Guatemala" TargetMode="External"/><Relationship Id="rId10" Type="http://schemas.openxmlformats.org/officeDocument/2006/relationships/hyperlink" Target="http://pt.wikipedia.org/wiki/L&#237;ngua_oficial" TargetMode="External"/><Relationship Id="rId11" Type="http://schemas.openxmlformats.org/officeDocument/2006/relationships/hyperlink" Target="http://pt.wikipedia.org/wiki/L&#237;ngua_castelhana" TargetMode="External"/><Relationship Id="rId12" Type="http://schemas.openxmlformats.org/officeDocument/2006/relationships/hyperlink" Target="http://pt.wikipedia.org/wiki/Anexo:Lista_de_pa&#237;ses_e_territ&#243;rios_por_&#225;rea" TargetMode="External"/><Relationship Id="rId13" Type="http://schemas.openxmlformats.org/officeDocument/2006/relationships/hyperlink" Target="http://pt.wikipedia.org/wiki/Quil&#243;metro_quadrado" TargetMode="External"/><Relationship Id="rId14" Type="http://schemas.openxmlformats.org/officeDocument/2006/relationships/hyperlink" Target="http://pt.wikipedia.org/wiki/Anexo:Lista_de_pa&#237;ses_e_territ&#243;rios_por_&#225;rea" TargetMode="External"/><Relationship Id="rId15" Type="http://schemas.openxmlformats.org/officeDocument/2006/relationships/hyperlink" Target="http://pt.wikipedia.org/wiki/Popula&#231;&#227;o" TargetMode="External"/><Relationship Id="rId16" Type="http://schemas.openxmlformats.org/officeDocument/2006/relationships/hyperlink" Target="http://pt.wikipedia.org/wiki/Anexo:Lista_de_pa&#237;ses_por_popula&#231;&#227;o" TargetMode="External"/><Relationship Id="rId17" Type="http://schemas.openxmlformats.org/officeDocument/2006/relationships/hyperlink" Target="http://pt.wikipedia.org/wiki/Produto_interno_bruto" TargetMode="External"/><Relationship Id="rId18" Type="http://schemas.openxmlformats.org/officeDocument/2006/relationships/hyperlink" Target="http://pt.wikipedia.org/wiki/Paridade_do_poder_de_compra" TargetMode="External"/><Relationship Id="rId19" Type="http://schemas.openxmlformats.org/officeDocument/2006/relationships/hyperlink" Target="http://pt.wikipedia.org/wiki/USD" TargetMode="External"/><Relationship Id="rId20" Type="http://schemas.openxmlformats.org/officeDocument/2006/relationships/hyperlink" Target="http://pt.wikipedia.org/wiki/Anexo:Lista_de_pa&#237;ses_por_PIB_(Paridade_do_Poder_de_Compra)" TargetMode="External"/><Relationship Id="rId21" Type="http://schemas.openxmlformats.org/officeDocument/2006/relationships/hyperlink" Target="http://pt.wikipedia.org/wiki/Renda_per_capita" TargetMode="External"/><Relationship Id="rId22" Type="http://schemas.openxmlformats.org/officeDocument/2006/relationships/hyperlink" Target="http://pt.wikipedia.org/wiki/USD" TargetMode="External"/><Relationship Id="rId23" Type="http://schemas.openxmlformats.org/officeDocument/2006/relationships/hyperlink" Target="http://pt.wikipedia.org/wiki/Anexo:Lista_de_pa&#237;ses_por_PIB_(Paridade_do_Poder_de_Compra)_per_capita" TargetMode="External"/><Relationship Id="rId24" Type="http://schemas.openxmlformats.org/officeDocument/2006/relationships/hyperlink" Target="http://pt.wikipedia.org/wiki/Indicador_social" TargetMode="External"/><Relationship Id="rId25" Type="http://schemas.openxmlformats.org/officeDocument/2006/relationships/hyperlink" Target="http://pt.wikipedia.org/wiki/&#205;ndice_de_Desenvolvimento_Humano" TargetMode="External"/><Relationship Id="rId26" Type="http://schemas.openxmlformats.org/officeDocument/2006/relationships/hyperlink" Target="http://pt.wikipedia.org/wiki/Anexo:Lista_de_pa&#237;ses_por_&#205;ndice_de_Desenvolvimento_Humano" TargetMode="External"/><Relationship Id="rId27" Type="http://schemas.openxmlformats.org/officeDocument/2006/relationships/hyperlink" Target="http://pt.wikipedia.org/wiki/Moeda" TargetMode="External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audio" Target="../media/chimes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hammer.wav"/><Relationship Id="rId36" Type="http://schemas.openxmlformats.org/officeDocument/2006/relationships/audio" Target="../media/hammer.wav"/><Relationship Id="rId37" Type="http://schemas.openxmlformats.org/officeDocument/2006/relationships/audio" Target="../media/hammer.wav"/><Relationship Id="rId38" Type="http://schemas.openxmlformats.org/officeDocument/2006/relationships/audio" Target="../media/hammer.wav"/><Relationship Id="rId39" Type="http://schemas.openxmlformats.org/officeDocument/2006/relationships/audio" Target="../media/hammer.wav"/><Relationship Id="rId40" Type="http://schemas.openxmlformats.org/officeDocument/2006/relationships/audio" Target="../media/hammer.wav"/><Relationship Id="rId41" Type="http://schemas.openxmlformats.org/officeDocument/2006/relationships/audio" Target="../media/hammer.wav"/><Relationship Id="rId42" Type="http://schemas.openxmlformats.org/officeDocument/2006/relationships/audio" Target="../media/hammer.wav"/><Relationship Id="rId43" Type="http://schemas.openxmlformats.org/officeDocument/2006/relationships/audio" Target="../media/hammer.wav"/><Relationship Id="rId44" Type="http://schemas.openxmlformats.org/officeDocument/2006/relationships/audio" Target="../media/hammer.wav"/><Relationship Id="rId45" Type="http://schemas.openxmlformats.org/officeDocument/2006/relationships/audio" Target="../media/hammer.wav"/><Relationship Id="rId46" Type="http://schemas.openxmlformats.org/officeDocument/2006/relationships/audio" Target="../media/hammer.wav"/><Relationship Id="rId47" Type="http://schemas.openxmlformats.org/officeDocument/2006/relationships/audio" Target="../media/hammer.wav"/><Relationship Id="rId4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Am&#233;rica_Central" TargetMode="External"/><Relationship Id="rId3" Type="http://schemas.openxmlformats.org/officeDocument/2006/relationships/hyperlink" Target="http://pt.wikipedia.org/wiki/M&#233;xico" TargetMode="External"/><Relationship Id="rId4" Type="http://schemas.openxmlformats.org/officeDocument/2006/relationships/hyperlink" Target="http://pt.wikipedia.org/wiki/Belize" TargetMode="External"/><Relationship Id="rId5" Type="http://schemas.openxmlformats.org/officeDocument/2006/relationships/hyperlink" Target="http://pt.wikipedia.org/wiki/Golfo_das_Honduras" TargetMode="External"/><Relationship Id="rId6" Type="http://schemas.openxmlformats.org/officeDocument/2006/relationships/hyperlink" Target="http://pt.wikipedia.org/wiki/Honduras" TargetMode="External"/><Relationship Id="rId7" Type="http://schemas.openxmlformats.org/officeDocument/2006/relationships/hyperlink" Target="http://pt.wikipedia.org/wiki/El_Salvador" TargetMode="External"/><Relationship Id="rId8" Type="http://schemas.openxmlformats.org/officeDocument/2006/relationships/hyperlink" Target="http://pt.wikipedia.org/wiki/Oceano_Pac&#237;fico" TargetMode="External"/><Relationship Id="rId9" Type="http://schemas.openxmlformats.org/officeDocument/2006/relationships/hyperlink" Target="http://pt.wikipedia.org/wiki/Cidade_da_Guatemala" TargetMode="Externa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voltage.wav"/><Relationship Id="rId15" Type="http://schemas.openxmlformats.org/officeDocument/2006/relationships/audio" Target="../media/voltage.wav"/><Relationship Id="rId1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pt.wikipedia.org/wiki/Ficheiro:GuatemalaWeavings79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drumroll.wav"/><Relationship Id="rId10" Type="http://schemas.openxmlformats.org/officeDocument/2006/relationships/audio" Target="../media/bomb.wav"/><Relationship Id="rId11" Type="http://schemas.openxmlformats.org/officeDocument/2006/relationships/audio" Target="../media/bomb.wav"/><Relationship Id="rId12" Type="http://schemas.openxmlformats.org/officeDocument/2006/relationships/audio" Target="../media/bomb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Religi&#227;o" TargetMode="External"/><Relationship Id="rId3" Type="http://schemas.openxmlformats.org/officeDocument/2006/relationships/hyperlink" Target="http://pt.wikipedia.org/wiki/Catolicismo_romano" TargetMode="External"/><Relationship Id="rId4" Type="http://schemas.openxmlformats.org/officeDocument/2006/relationships/hyperlink" Target="http://pt.wikipedia.org/wiki/Protestantismo" TargetMode="External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Latino" TargetMode="External"/><Relationship Id="rId3" Type="http://schemas.openxmlformats.org/officeDocument/2006/relationships/hyperlink" Target="http://pt.wikipedia.org/wiki/Mesti&#231;o" TargetMode="External"/><Relationship Id="rId4" Type="http://schemas.openxmlformats.org/officeDocument/2006/relationships/hyperlink" Target="http://pt.wikipedia.org/wiki/Amer&#237;ndio" TargetMode="External"/><Relationship Id="rId5" Type="http://schemas.openxmlformats.org/officeDocument/2006/relationships/hyperlink" Target="http://pt.wikipedia.org/wiki/Maia" TargetMode="External"/><Relationship Id="rId6" Type="http://schemas.openxmlformats.org/officeDocument/2006/relationships/hyperlink" Target="http://pt.wikipedia.org/w/index.php?title=Garifuna&amp;action=edit&amp;redlink=1" TargetMode="External"/><Relationship Id="rId7" Type="http://schemas.openxmlformats.org/officeDocument/2006/relationships/hyperlink" Target="http://pt.wikipedia.org/wiki/L&#237;ngua_espanhola" TargetMode="External"/><Relationship Id="rId8" Type="http://schemas.openxmlformats.org/officeDocument/2006/relationships/hyperlink" Target="http://pt.wikipedia.org/wiki/L&#237;ngua_maia" TargetMode="External"/><Relationship Id="rId9" Type="http://schemas.openxmlformats.org/officeDocument/2006/relationships/hyperlink" Target="http://pt.wikipedia.org/wiki/1996" TargetMode="External"/><Relationship Id="rId10" Type="http://schemas.openxmlformats.org/officeDocument/2006/relationships/audio" Target="../media/hammer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PIB" TargetMode="External"/><Relationship Id="rId3" Type="http://schemas.openxmlformats.org/officeDocument/2006/relationships/hyperlink" Target="http://pt.wikipedia.org/wiki/Caf&#233;" TargetMode="External"/><Relationship Id="rId4" Type="http://schemas.openxmlformats.org/officeDocument/2006/relationships/hyperlink" Target="http://pt.wikipedia.org/wiki/A&#231;&#250;car" TargetMode="External"/><Relationship Id="rId5" Type="http://schemas.openxmlformats.org/officeDocument/2006/relationships/hyperlink" Target="http://pt.wikipedia.org/wiki/Bananas" TargetMode="External"/><Relationship Id="rId6" Type="http://schemas.openxmlformats.org/officeDocument/2006/relationships/hyperlink" Target="http://pt.wikipedia.org/wiki/Guatemala#cite_note-2#cite_note-2" TargetMode="External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Pol&#237;tica_da_Guatemala" TargetMode="External"/><Relationship Id="rId3" Type="http://schemas.openxmlformats.org/officeDocument/2006/relationships/hyperlink" Target="http://pt.wikipedia.org/wiki/Presidente_da_Guatemala" TargetMode="External"/><Relationship Id="rId4" Type="http://schemas.openxmlformats.org/officeDocument/2006/relationships/hyperlink" Target="http://pt.wikipedia.org/wiki/Organiza&#231;&#227;o_pol&#237;tico-administrativa_da_Guatemala" TargetMode="External"/><Relationship Id="rId5" Type="http://schemas.openxmlformats.org/officeDocument/2006/relationships/hyperlink" Target="http://pt.wikipedia.org/wiki/Alta_Verapaz" TargetMode="External"/><Relationship Id="rId6" Type="http://schemas.openxmlformats.org/officeDocument/2006/relationships/hyperlink" Target="http://pt.wikipedia.org/wiki/Baja_Verapaz" TargetMode="External"/><Relationship Id="rId7" Type="http://schemas.openxmlformats.org/officeDocument/2006/relationships/hyperlink" Target="http://pt.wikipedia.org/wiki/Chimaltenango" TargetMode="External"/><Relationship Id="rId8" Type="http://schemas.openxmlformats.org/officeDocument/2006/relationships/hyperlink" Target="http://pt.wikipedia.org/wiki/Chiquimula" TargetMode="External"/><Relationship Id="rId9" Type="http://schemas.openxmlformats.org/officeDocument/2006/relationships/hyperlink" Target="http://pt.wikipedia.org/wiki/El_Progreso" TargetMode="External"/><Relationship Id="rId10" Type="http://schemas.openxmlformats.org/officeDocument/2006/relationships/hyperlink" Target="http://pt.wikipedia.org/wiki/Escuintla" TargetMode="External"/><Relationship Id="rId11" Type="http://schemas.openxmlformats.org/officeDocument/2006/relationships/hyperlink" Target="http://pt.wikipedia.org/wiki/Huehuetenango" TargetMode="External"/><Relationship Id="rId12" Type="http://schemas.openxmlformats.org/officeDocument/2006/relationships/hyperlink" Target="http://pt.wikipedia.org/wiki/Izabal" TargetMode="External"/><Relationship Id="rId13" Type="http://schemas.openxmlformats.org/officeDocument/2006/relationships/hyperlink" Target="http://pt.wikipedia.org/wiki/Jalapa" TargetMode="External"/><Relationship Id="rId14" Type="http://schemas.openxmlformats.org/officeDocument/2006/relationships/hyperlink" Target="http://pt.wikipedia.org/wiki/Jutiapa" TargetMode="External"/><Relationship Id="rId15" Type="http://schemas.openxmlformats.org/officeDocument/2006/relationships/hyperlink" Target="http://pt.wikipedia.org/wiki/Pet&#233;n" TargetMode="External"/><Relationship Id="rId16" Type="http://schemas.openxmlformats.org/officeDocument/2006/relationships/hyperlink" Target="http://pt.wikipedia.org/wiki/Quetzaltenango" TargetMode="External"/><Relationship Id="rId17" Type="http://schemas.openxmlformats.org/officeDocument/2006/relationships/hyperlink" Target="http://pt.wikipedia.org/wiki/El_Quich&#233;" TargetMode="External"/><Relationship Id="rId18" Type="http://schemas.openxmlformats.org/officeDocument/2006/relationships/hyperlink" Target="http://pt.wikipedia.org/wiki/Retalhuleu" TargetMode="External"/><Relationship Id="rId19" Type="http://schemas.openxmlformats.org/officeDocument/2006/relationships/hyperlink" Target="http://pt.wikipedia.org/w/index.php?title=Sacatepequez&amp;action=edit&amp;redlink=1" TargetMode="External"/><Relationship Id="rId20" Type="http://schemas.openxmlformats.org/officeDocument/2006/relationships/hyperlink" Target="http://pt.wikipedia.org/wiki/San_Marcos" TargetMode="External"/><Relationship Id="rId21" Type="http://schemas.openxmlformats.org/officeDocument/2006/relationships/hyperlink" Target="http://pt.wikipedia.org/wiki/Santa_Rosa" TargetMode="External"/><Relationship Id="rId22" Type="http://schemas.openxmlformats.org/officeDocument/2006/relationships/hyperlink" Target="http://pt.wikipedia.org/w/index.php?title=Solola&amp;action=edit&amp;redlink=1" TargetMode="External"/><Relationship Id="rId23" Type="http://schemas.openxmlformats.org/officeDocument/2006/relationships/hyperlink" Target="http://pt.wikipedia.org/w/index.php?title=Suchitepequez&amp;action=edit&amp;redlink=1" TargetMode="External"/><Relationship Id="rId24" Type="http://schemas.openxmlformats.org/officeDocument/2006/relationships/hyperlink" Target="http://pt.wikipedia.org/w/index.php?title=Totonicapan&amp;action=edit&amp;redlink=1" TargetMode="External"/><Relationship Id="rId25" Type="http://schemas.openxmlformats.org/officeDocument/2006/relationships/hyperlink" Target="http://pt.wikipedia.org/wiki/Zacapa" TargetMode="External"/><Relationship Id="rId26" Type="http://schemas.openxmlformats.org/officeDocument/2006/relationships/audio" Target="../media/breeze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S&#233;culo_IV" TargetMode="External"/><Relationship Id="rId3" Type="http://schemas.openxmlformats.org/officeDocument/2006/relationships/hyperlink" Target="http://pt.wikipedia.org/wiki/S&#233;culo_XI" TargetMode="External"/><Relationship Id="rId4" Type="http://schemas.openxmlformats.org/officeDocument/2006/relationships/hyperlink" Target="http://pt.wikipedia.org/wiki/Regi&#227;o" TargetMode="External"/><Relationship Id="rId5" Type="http://schemas.openxmlformats.org/officeDocument/2006/relationships/hyperlink" Target="http://pt.wikipedia.org/w/index.php?title=P&#233;ten&amp;action=edit&amp;redlink=1" TargetMode="External"/><Relationship Id="rId6" Type="http://schemas.openxmlformats.org/officeDocument/2006/relationships/hyperlink" Target="http://pt.wikipedia.org/wiki/Civiliza&#231;&#227;o_Maia" TargetMode="External"/><Relationship Id="rId7" Type="http://schemas.openxmlformats.org/officeDocument/2006/relationships/hyperlink" Target="http://pt.wikipedia.org/wiki/Espanha" TargetMode="External"/><Relationship Id="rId8" Type="http://schemas.openxmlformats.org/officeDocument/2006/relationships/hyperlink" Target="http://pt.wikipedia.org/wiki/1523" TargetMode="External"/><Relationship Id="rId9" Type="http://schemas.openxmlformats.org/officeDocument/2006/relationships/hyperlink" Target="http://pt.wikipedia.org/wiki/1697" TargetMode="External"/><Relationship Id="rId10" Type="http://schemas.openxmlformats.org/officeDocument/2006/relationships/hyperlink" Target="http://pt.wikipedia.org/wiki/1821" TargetMode="External"/><Relationship Id="rId11" Type="http://schemas.openxmlformats.org/officeDocument/2006/relationships/hyperlink" Target="http://pt.wikipedia.org/wiki/Col&#244;nia" TargetMode="External"/><Relationship Id="rId12" Type="http://schemas.openxmlformats.org/officeDocument/2006/relationships/hyperlink" Target="http://pt.wikipedia.org/wiki/Espanha" TargetMode="External"/><Relationship Id="rId13" Type="http://schemas.openxmlformats.org/officeDocument/2006/relationships/hyperlink" Target="http://pt.wikipedia.org/wiki/S&#233;culo_XX" TargetMode="External"/><Relationship Id="rId14" Type="http://schemas.openxmlformats.org/officeDocument/2006/relationships/hyperlink" Target="http://pt.wikipedia.org/wiki/Governo" TargetMode="External"/><Relationship Id="rId15" Type="http://schemas.openxmlformats.org/officeDocument/2006/relationships/hyperlink" Target="http://pt.wikipedia.org/wiki/Guerra_civil" TargetMode="External"/><Relationship Id="rId16" Type="http://schemas.openxmlformats.org/officeDocument/2006/relationships/hyperlink" Target="http://pt.wikipedia.org/wiki/Ano" TargetMode="External"/><Relationship Id="rId17" Type="http://schemas.openxmlformats.org/officeDocument/2006/relationships/hyperlink" Target="http://pt.wikipedia.org/wiki/1996" TargetMode="External"/><Relationship Id="rId18" Type="http://schemas.openxmlformats.org/officeDocument/2006/relationships/hyperlink" Target="http://pt.wikipedia.org/wiki/Paz" TargetMode="External"/><Relationship Id="rId19" Type="http://schemas.openxmlformats.org/officeDocument/2006/relationships/hyperlink" Target="http://pt.wikipedia.org/wiki/Cem" TargetMode="External"/><Relationship Id="rId20" Type="http://schemas.openxmlformats.org/officeDocument/2006/relationships/hyperlink" Target="http://pt.wikipedia.org/wiki/Mil" TargetMode="External"/><Relationship Id="rId21" Type="http://schemas.openxmlformats.org/officeDocument/2006/relationships/hyperlink" Target="http://pt.wikipedia.org/wiki/Pessoa" TargetMode="External"/><Relationship Id="rId22" Type="http://schemas.openxmlformats.org/officeDocument/2006/relationships/hyperlink" Target="http://pt.wikipedia.org/wiki/Milh&#227;o" TargetMode="External"/><Relationship Id="rId23" Type="http://schemas.openxmlformats.org/officeDocument/2006/relationships/hyperlink" Target="http://pt.wikipedia.org/wiki/Refugiado" TargetMode="External"/><Relationship Id="rId24" Type="http://schemas.openxmlformats.org/officeDocument/2006/relationships/audio" Target="../media/click.wav"/><Relationship Id="rId25" Type="http://schemas.openxmlformats.org/officeDocument/2006/relationships/audio" Target="../media/suction.wav"/><Relationship Id="rId26" Type="http://schemas.openxmlformats.org/officeDocument/2006/relationships/audio" Target="../media/suction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Guatem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pública da Guatemal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Bandeira da Guatemal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rasão das Arm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Hino nacion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Guatemala Feli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Lem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“Livre, cresça fecun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apit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Cidade da Guatem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Língua ofici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Espan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Áre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otal 108.890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km²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06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; Água (%)0,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opulaç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- Estimativa de 2007: 12.728.111 hab.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62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PI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base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PPC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Estimativa de 2005 - Total US$ 63,78 bilhões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US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71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 -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er capit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US$ 4,155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US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16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Indicadores socia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IDH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(2007)0,689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18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 – mé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Moeda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Quetz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[[ISO 4217|]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uso ho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UTC−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ebsite governamental: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http://www.guatemala.gob.gt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8"/>
          <a:stretch/>
        </p:blipFill>
        <p:spPr>
          <a:xfrm>
            <a:off x="0" y="-27000"/>
            <a:ext cx="2987640" cy="18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4920" y="1954080"/>
          <a:ext cx="2881440" cy="395280"/>
        </p:xfrm>
        <a:graphic>
          <a:graphicData uri="http://schemas.openxmlformats.org/drawingml/2006/table">
            <a:tbl>
              <a:tblPr/>
              <a:tblGrid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deira da Guatema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" descr=""/>
          <p:cNvPicPr/>
          <p:nvPr/>
        </p:nvPicPr>
        <p:blipFill>
          <a:blip r:embed="rId29"/>
          <a:stretch/>
        </p:blipFill>
        <p:spPr>
          <a:xfrm>
            <a:off x="6516720" y="22320"/>
            <a:ext cx="2627280" cy="19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419880" y="1881360"/>
          <a:ext cx="2616120" cy="39528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são de Ar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.E.Senador Filinto Mull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unos: Adriano; Dav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º: 1; 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º Ano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fessor (a): Marlene Peixo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220"/>
                            </p:stCondLst>
                            <p:childTnLst>
                              <p:par>
                                <p:cTn id="4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720"/>
                            </p:stCondLst>
                            <p:childTnLst>
                              <p:par>
                                <p:cTn id="4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22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20"/>
                            </p:stCondLst>
                            <p:childTnLst>
                              <p:par>
                                <p:cTn id="4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liza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Guatemala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é um país da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América Central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, limitado a oeste e a norte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éxico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, a leste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elize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,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olfo das Honduras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e pelas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Honduras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e a sul por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l Salvador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e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Oceano Pacífico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. Capital: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Cidade da Guatemala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684360" y="4221000"/>
            <a:ext cx="3962160" cy="1981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5397480" y="2924280"/>
            <a:ext cx="348156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881080" cy="208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44640"/>
            <a:ext cx="4535640" cy="27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5003640" y="1341360"/>
          <a:ext cx="2400120" cy="395280"/>
        </p:xfrm>
        <a:graphic>
          <a:graphicData uri="http://schemas.openxmlformats.org/drawingml/2006/table">
            <a:tbl>
              <a:tblPr/>
              <a:tblGrid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ricul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16360" y="4221000"/>
          <a:ext cx="2760840" cy="395280"/>
        </p:xfrm>
        <a:graphic>
          <a:graphicData uri="http://schemas.openxmlformats.org/drawingml/2006/table">
            <a:tbl>
              <a:tblPr/>
              <a:tblGrid>
                <a:gridCol w="2760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esan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0" y="4653000"/>
            <a:ext cx="2179800" cy="2205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6156360" y="4724280"/>
            <a:ext cx="1728720" cy="2133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195640" y="4653000"/>
            <a:ext cx="1944720" cy="2205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4211640" y="4724280"/>
            <a:ext cx="19080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68360" y="1413000"/>
          <a:ext cx="3097080" cy="39528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peçaria artesanal</a:t>
                      </a:r>
                      <a:r>
                        <a:rPr b="1" lang="pt-PT" sz="2000" spc="-1" strike="noStrike">
                          <a:solidFill>
                            <a:srgbClr val="ccffff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Religi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pt-PT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eligião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 predominante é o </a:t>
            </a:r>
            <a:r>
              <a:rPr b="0" lang="pt-PT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atolicismo romano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, ao qual foram incorporadas formas tradicionais de culto por muitos guatemaltecos indígenas. Estima-se que o </a:t>
            </a:r>
            <a:r>
              <a:rPr b="0" lang="pt-PT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protestantismo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 e as religiões maias tradicionais sejam praticados por 40% e 1% da população, respec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atólicos-romanos - 5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Protestantes - 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Religiões maias tradicionais -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uçulmanos -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Budistas e Hinduístas - 0,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Outras religiões - 0,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Demograf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atin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estiç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ameríndi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ocidentalizados) e brancos compõem cerca de 59,4% da população da Guatemala. Os ameríndios não assimilados, descendentes do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mai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constituem 40,6% da população.Também há descendentes de africanos, especialmente ao longo da costa caribenha, em especial o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garifun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mbora a maior parte da população da Guatemala seja rural, a urbanização está em acelera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mbora a língua oficial seja 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spanho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ela não é universalmente compreendida entre a população indígena; ainda são faladas vária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línguas mai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em especial em áreas rura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acordos de paz assinados em Dezembro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96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terminam a tradução de alguns documentos oficiais e de materiais de voto para várias línguas indígenas.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Econom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economia da Guatemala baseia-se predominantemente na agricultura. Um quarto d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IB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dois terços das exportações e metade da força de trabalho do país provém do ca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principais produtos sã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afé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açúcar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banan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presidente Arzu (1996-2000) trabalhou para implementar um programa de abertura comercial e para modernizar a política do país. Em 1996 foi assinado o acordo de paz que pôs fim à guerra civil que durava há 36 an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distribuição de riquezas do país é bastante desigual, com 52,6% da população abaixo da linha da pobreza (2007).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[3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Geograf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Guatemala é o terceiro maior país da América Central. Limita-se ao Norte e a Oeste com o México, ao Sul com o oceano Pacífico e a Leste com Honduras, Belize e El Salvador. Assim como outros países centro-americanos, a Guatemala possui diversos lagos, cadeias de montanhas, que são prolongamento da Serra Madre mexicana, e grandes vulcões – alguns chegam a atingir mais de 4.000m de altitude e ainda estão ativos, como o Tajumulco, de 4.210m e o Tacaná, de 4.093m. Ao Sul e a Leste as altitudes são menores. O Vale Motagua, na planície de El Petén, é um dos principais campos de fósseis de dinossauros. É também a região mais fértil do país e onde se concentram as principais atividades econômicas, com destaque para o cultivo do milho e a banana. Na região próxima ao Pacífico, as plantações de cana-de-açúcar e café são as mais importantes. A temperatura é quente nas planícies e fria nas montanhas. No litoral do Pacífico, o clima é o tropical, e na costa caribenha os termômetros chegam a atingir 38ºC. Na floresta da planície de El Petén o clima é quente, e o grau de umidade varia de acordo com a época do 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Polít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olítica da Guatemala</a:t>
            </a: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residente da Guatemala</a:t>
            </a: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parlamento da Guatemala, o Congresso da República, com 113 assentos, é eleito cada quatro anos, simultaneamente com as eleições presidenciais. O presidente atua como chefe de Estado e do governo. Em suas tarefas executivas é auxiliado por um gabinete de ministros que são designados pelo próprio presid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Organização político-administrativa da Guatem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Guatemala está dividida em 22 departamentos (nome que se dá as divisões nesse país). Eles são: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Alta Verapa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Baja Verapa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Chimaltenang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hiquimu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El Progres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Escuint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Guatema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Huehuetenang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Izaba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Jalap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Jutiap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etén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Quetzaltenang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El Quiché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Retalhuleu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Sacatepeque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San Marc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Santa Ros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Solo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Suchitepeque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Totonicapan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Zacap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Histó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éculo IV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a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século XI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as terras baixas d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regiã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éten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foram o coração da florescent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civilização Mai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 Depois do colapso dos estados das terras baixas, os estados Maias do altiplano central continuaram existindo mais ou menos organizados. Embora os conquistadore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spanhói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tenham chegado à região e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523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houve uma feroz resistência das cidades-estado maias e a última só foi efetivamente conquistada e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6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Guatemala, até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1821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foi um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colôni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Espanh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 Durante a segunda metade d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Século XX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xperimentou uma variedade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govern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militares e civis, sendo uma dessas de Jacobo Arbenz - que fora retirado do poder por ameaçar fazer reforma agrária em terras da United Fruit Company; desse modo sofreu um golpe com intervenção estadunidense, em 1953, colocando um ponto final na política de Boa Vizinhança, caracterizada pelo governo Roosevelt, bem como um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guerra civi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que durou 36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an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 E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96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o governo assinou um acordo d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pa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terminando formalmente com o conflito, que levou à morte de mais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cem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mi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esso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 tinha criado u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milhã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refugiad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0:26:57Z</dcterms:created>
  <dc:creator>Escola</dc:creator>
  <dc:description/>
  <dc:language>en-US</dc:language>
  <cp:lastModifiedBy>Escola</cp:lastModifiedBy>
  <dcterms:modified xsi:type="dcterms:W3CDTF">2009-09-10T23:54:23Z</dcterms:modified>
  <cp:revision>12</cp:revision>
  <dc:subject/>
  <dc:title>Guatemala</dc:title>
</cp:coreProperties>
</file>